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png" ContentType="image/png"/>
  <Override PartName="/ppt/media/image9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2B4-A557-4C5E-AAD6-5AE3B8E3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07AC-5BE0-4AED-9F12-99C2A35D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F3B-692C-438A-91A6-EDB1589C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40D-EFAD-4C27-9B0F-772C317C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391-DD30-46C3-A45B-C61E3CD6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D94-70F6-459C-8936-049A8B50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8F7-F5FE-4C4D-B7F4-E6A9DA76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2B4-EA76-4232-B113-2ED56A64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CB6-FD16-4CC4-9ACD-B8087E47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4F4-73DA-490D-933D-6712690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D1F-8B7E-4BB1-845D-153AC63C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743-C879-4514-9A71-3763FA3C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602-C7C5-4059-945A-B1A8D55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5AD-746B-42EB-A9C9-17F90CF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4A4-25B8-4AF9-B1A0-7728898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CA5-D3CA-4C15-8BCB-27FCFAF9E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nh 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3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24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¿Cómo es tu fami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Cuántos años tie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Dónde v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Cuántos hermanos tienes? Tengo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Tienen Uds. una masco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048120" y="3200400"/>
            <a:ext cx="34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vo en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8440" y="4267080"/>
            <a:ext cx="62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go una familia pequeñ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(gran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272120" y="281952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go ___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7360" y="5791320"/>
            <a:ext cx="58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(Si)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No, no tenemos una masc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adjetivos posesivo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ssesive adjec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s who owns or possess something. 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Adjetivos posesivo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panis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"/>
          <p:cNvPicPr/>
          <p:nvPr/>
        </p:nvPicPr>
        <p:blipFill>
          <a:blip r:embed="rId1"/>
          <a:stretch/>
        </p:blipFill>
        <p:spPr>
          <a:xfrm>
            <a:off x="152280" y="304812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219320" y="3429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81080" y="3429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520000" y="3429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you-singular"/>
          <p:cNvPicPr/>
          <p:nvPr/>
        </p:nvPicPr>
        <p:blipFill>
          <a:blip r:embed="rId2"/>
          <a:stretch/>
        </p:blipFill>
        <p:spPr>
          <a:xfrm>
            <a:off x="0" y="4191120"/>
            <a:ext cx="1905120" cy="138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434960" y="4648320"/>
            <a:ext cx="11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435040" y="46483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969640" y="46483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he"/>
          <p:cNvPicPr/>
          <p:nvPr/>
        </p:nvPicPr>
        <p:blipFill>
          <a:blip r:embed="rId3"/>
          <a:stretch/>
        </p:blipFill>
        <p:spPr>
          <a:xfrm>
            <a:off x="0" y="5337000"/>
            <a:ext cx="1981080" cy="1444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752480" y="52880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olit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518560" y="57150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129120" y="5715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4"/>
          <a:stretch/>
        </p:blipFill>
        <p:spPr>
          <a:xfrm>
            <a:off x="4038480" y="2895480"/>
            <a:ext cx="2438640" cy="1771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8"/>
          <p:cNvSpPr/>
          <p:nvPr/>
        </p:nvSpPr>
        <p:spPr>
          <a:xfrm>
            <a:off x="5867280" y="3352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6790320" y="320040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o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6705720" y="3733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5"/>
          <a:stretch/>
        </p:blipFill>
        <p:spPr>
          <a:xfrm>
            <a:off x="4343400" y="4724280"/>
            <a:ext cx="1905120" cy="1384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2"/>
          <p:cNvSpPr/>
          <p:nvPr/>
        </p:nvSpPr>
        <p:spPr>
          <a:xfrm>
            <a:off x="6172200" y="5105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ol. p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7320240" y="52578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7853760" y="52578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8240" y="5335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only two forms– Singular and Plur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ejemplo:  Mi primo               Tu t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 primos            Tus tí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jectiv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refer to many differ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ejemplo: Su hermana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 hermanos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456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ues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ke any other adjective that ends in –O has 4 f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estro cuarto                       Nuestra casa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estros cuartos                   Nuestras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http://www.nagpur-properties.com/Brochure/11949855701035143047my_house_01.svg.hi.png"/>
          <p:cNvPicPr/>
          <p:nvPr/>
        </p:nvPicPr>
        <p:blipFill>
          <a:blip r:embed="rId1"/>
          <a:stretch/>
        </p:blipFill>
        <p:spPr>
          <a:xfrm>
            <a:off x="5334120" y="1676520"/>
            <a:ext cx="265896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http://www.besthomedesigns.org/wp-content/uploads/2011/08/Kids-Bedroom-Ide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91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la oración con 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djetivo Posesiv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i"/>
          <p:cNvPicPr/>
          <p:nvPr/>
        </p:nvPicPr>
        <p:blipFill>
          <a:blip r:embed="rId1"/>
          <a:stretch/>
        </p:blipFill>
        <p:spPr>
          <a:xfrm>
            <a:off x="990720" y="198108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2767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per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you-singular"/>
          <p:cNvPicPr/>
          <p:nvPr/>
        </p:nvPicPr>
        <p:blipFill>
          <a:blip r:embed="rId2"/>
          <a:stretch/>
        </p:blipFill>
        <p:spPr>
          <a:xfrm>
            <a:off x="914400" y="34290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276720" y="38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g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he"/>
          <p:cNvPicPr/>
          <p:nvPr/>
        </p:nvPicPr>
        <p:blipFill>
          <a:blip r:embed="rId3"/>
          <a:stretch/>
        </p:blipFill>
        <p:spPr>
          <a:xfrm>
            <a:off x="914400" y="4876920"/>
            <a:ext cx="1981080" cy="1444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3124080" y="5486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somb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MCj04174580000[1]"/>
          <p:cNvPicPr/>
          <p:nvPr/>
        </p:nvPicPr>
        <p:blipFill>
          <a:blip r:embed="rId4"/>
          <a:stretch/>
        </p:blipFill>
        <p:spPr>
          <a:xfrm>
            <a:off x="6400800" y="1828800"/>
            <a:ext cx="109692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MCj04363260000[1]"/>
          <p:cNvPicPr/>
          <p:nvPr/>
        </p:nvPicPr>
        <p:blipFill>
          <a:blip r:embed="rId5"/>
          <a:stretch/>
        </p:blipFill>
        <p:spPr>
          <a:xfrm>
            <a:off x="6400800" y="3352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j04361960000[1]"/>
          <p:cNvPicPr/>
          <p:nvPr/>
        </p:nvPicPr>
        <p:blipFill>
          <a:blip r:embed="rId6"/>
          <a:stretch/>
        </p:blipFill>
        <p:spPr>
          <a:xfrm>
            <a:off x="6629400" y="5029200"/>
            <a:ext cx="1828800" cy="1181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41148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038480" y="3733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886200" y="5410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5228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505320" y="1371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Cj04247600000[1]"/>
          <p:cNvPicPr/>
          <p:nvPr/>
        </p:nvPicPr>
        <p:blipFill>
          <a:blip r:embed="rId2"/>
          <a:stretch/>
        </p:blipFill>
        <p:spPr>
          <a:xfrm>
            <a:off x="6477120" y="533520"/>
            <a:ext cx="1530360" cy="1676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438280" cy="1771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2004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ab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MCj02405690000[1]"/>
          <p:cNvPicPr/>
          <p:nvPr/>
        </p:nvPicPr>
        <p:blipFill>
          <a:blip r:embed="rId4"/>
          <a:stretch/>
        </p:blipFill>
        <p:spPr>
          <a:xfrm>
            <a:off x="6858000" y="2514600"/>
            <a:ext cx="137016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"/>
          <p:cNvPicPr/>
          <p:nvPr/>
        </p:nvPicPr>
        <p:blipFill>
          <a:blip r:embed="rId5"/>
          <a:stretch/>
        </p:blipFill>
        <p:spPr>
          <a:xfrm>
            <a:off x="1066680" y="42670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274320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_________pr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419720" y="12193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733920" y="2971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886200" y="5029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g_hi" descr="https://encrypted-tbn1.gstatic.com/images?q=tbn:ANd9GcREE-VCNvNy6GEwmGsbjfhi3W0rtdZmzpA04Xfln4hur7TZrgoE"/>
          <p:cNvPicPr/>
          <p:nvPr/>
        </p:nvPicPr>
        <p:blipFill>
          <a:blip r:embed="rId6"/>
          <a:stretch/>
        </p:blipFill>
        <p:spPr>
          <a:xfrm>
            <a:off x="6858000" y="4724280"/>
            <a:ext cx="1771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you-singular"/>
          <p:cNvPicPr/>
          <p:nvPr/>
        </p:nvPicPr>
        <p:blipFill>
          <a:blip r:embed="rId1"/>
          <a:stretch/>
        </p:blipFill>
        <p:spPr>
          <a:xfrm>
            <a:off x="533520" y="533520"/>
            <a:ext cx="1981080" cy="144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e"/>
          <p:cNvPicPr/>
          <p:nvPr/>
        </p:nvPicPr>
        <p:blipFill>
          <a:blip r:embed="rId2"/>
          <a:stretch/>
        </p:blipFill>
        <p:spPr>
          <a:xfrm>
            <a:off x="457200" y="2286000"/>
            <a:ext cx="2286000" cy="1666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4361570000[1]"/>
          <p:cNvPicPr/>
          <p:nvPr/>
        </p:nvPicPr>
        <p:blipFill>
          <a:blip r:embed="rId3"/>
          <a:stretch/>
        </p:blipFill>
        <p:spPr>
          <a:xfrm>
            <a:off x="6629400" y="2362320"/>
            <a:ext cx="184140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2286000" cy="1660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2286000" y="1295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abuel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048120" y="3200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g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133720" y="5029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____ t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429000" y="1219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8620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8954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l_fi" descr="http://3.bp.blogspot.com/-Nue2SVTs8yA/Tmro8-WsqkI/AAAAAAAAB6k/uL5ThtYDF6s/s200/grandparents+cartoon.jpg"/>
          <p:cNvPicPr/>
          <p:nvPr/>
        </p:nvPicPr>
        <p:blipFill>
          <a:blip r:embed="rId5"/>
          <a:stretch/>
        </p:blipFill>
        <p:spPr>
          <a:xfrm>
            <a:off x="6477120" y="22860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http://jokesprank.com/blog/wp-content/uploads/2011/02/60s-Aunt+Uncle.jpg"/>
          <p:cNvPicPr/>
          <p:nvPr/>
        </p:nvPicPr>
        <p:blipFill>
          <a:blip r:embed="rId6"/>
          <a:stretch/>
        </p:blipFill>
        <p:spPr>
          <a:xfrm>
            <a:off x="5562720" y="4038480"/>
            <a:ext cx="310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storieta 9 p.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vivimos en (1)____________. (2)___________ casa esta en la calle (3)___________. (4)___________ padres tienen un carro. (5)_________ carro es bastante nuevo. Yo tengo una bicicleta. (6)_______ bicicleta esta en el garaje con el carro de (7)________ padres.  Nosotros tenemos un perro, (8)__________ perro es ad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)____________ perro esta en el jardin. Mi hermano y (10)__________ amigo siempre juegan en el jardin alrededor de (11)_________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257800" y="1371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ueva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371600" y="1766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952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chenta y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34340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ue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048120" y="26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257800" y="30621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095880" y="3519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867280" y="39765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u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362320" y="4890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u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733920" y="53481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486400" y="5729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R2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1:05:40Z</dcterms:created>
  <dc:creator>Helen Zumaeta</dc:creator>
  <dc:description/>
  <dc:language>en-US</dc:language>
  <cp:lastModifiedBy>Helen Zumaeta</cp:lastModifiedBy>
  <dcterms:modified xsi:type="dcterms:W3CDTF">2012-12-13T04:16:10Z</dcterms:modified>
  <cp:revision>29</cp:revision>
  <dc:subject/>
  <dc:title>Me llamo _________ Clase 6nh/il La fecha es el 24 de marzo del 2011</dc:title>
</cp:coreProperties>
</file>